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535-FD4B-4F9E-AF9B-3A7D7F2E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F8E-B1B9-4F3C-B559-93B04C2C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AAF-76A8-45A5-AE2A-B8406E19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29F-7BEA-4772-9379-05B199D5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4A8-03AD-40DF-897F-151429AA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F50-0345-4887-B757-AD2F185F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EC7-E281-4F65-8298-CCE8A391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48D-2246-4D62-9A64-767CB22E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697-0263-4C9D-8537-CD047470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81B-A479-47EA-A28B-93C2F9D4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61C-F753-43AE-858C-9E95D0B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969-0AA3-4BF2-B4ED-A61780B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53BA-489B-4699-AA88-22CFB0388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a vida de Hugo Cha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y Naguib Boutros-Ghali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2706480" cy="349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a ninez de Chavez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Nacido Hugo Chavez en 1954, la ciudad de Saban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Ambos padres maestros de educacion prim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a familia Chavez fue muy pob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Hugo termina la educacion primaria an 1966 en el Grupo Escolar Julian Pi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e gustaba el beisbol, fue monaguillo y tenia inclinaciones por la pintura, la escritura creativa y el teatr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03640" y="3938760"/>
            <a:ext cx="33260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ugo En La academia milit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71 Hugo fue admitio a lo academia militar de Venezue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e gradua en 1975 en ciencias y artes militares en la especialidad de ingen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77, Hugo es ascendido a teniente y lo destinan a la ciudad de marac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l se casa con Nancy Colmenares quien le dara 3 hi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82 es ascendido capitan y comenzo a conspirar en el Ejerc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2994120" cy="1950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4360" y="4724280"/>
            <a:ext cx="403848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26211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La vida politic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82, funda Chavez el Movimiento Bolivariano revolucionario 200 en alusion de los 200 annos del natalicio de Simon Boliv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92, en Maracibo, Francisco Aria Cardenas logra apoderarse del gobierno regional y toma prisionero al gobernador de Zulia con la ayuda de Chav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havez fue llevado prisionero al cuartel San Cabos en el n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havez paso 2 annos en la prision de San Francisco de yares y fue liberado en marzo de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00560" y="3938760"/>
            <a:ext cx="2932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ugo Chavez el preside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deciembre de 1998 fue electo presidente de Venezuela con 56.5% de los vo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havez tuvo su primer periodo presidencial febrero de 1999 a enero de 2001, fue elegido por un segundo periodo presidencial de enero 2001 a enero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84720" y="620640"/>
            <a:ext cx="265464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3141720"/>
            <a:ext cx="185904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3301920" cy="35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29973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9:59:21Z</dcterms:created>
  <dc:creator>ybg</dc:creator>
  <dc:description/>
  <dc:language>en-US</dc:language>
  <cp:lastModifiedBy>ybg</cp:lastModifiedBy>
  <dcterms:modified xsi:type="dcterms:W3CDTF">2007-11-19T18:24:53Z</dcterms:modified>
  <cp:revision>5</cp:revision>
  <dc:subject/>
  <dc:title>La vida de Hugo Chavez</dc:title>
</cp:coreProperties>
</file>